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9B1-C110-44B6-8323-5D07D8D0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3B5-00B2-44D6-AAE3-730AF3CB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F88-3482-4191-8F87-1D13CEA9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3C2-6202-49E3-B110-176A8B34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87F-1702-49F5-9EFA-E541E26A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92B-BCDE-4BDC-B921-98443A20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809-3EE8-4D4C-814D-2221A200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D2F-370C-4C3C-9AC4-14BD0120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4C9-A9A7-48A9-A73A-7C7A048F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3BB-0464-4E42-8FED-E14BE0D3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F42-03C1-4A4A-868A-22A975CC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C81-25AD-4254-A64D-6B4E6536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42DA-6A98-4AF4-8249-DF45510CD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gateway.org/" TargetMode="External"/><Relationship Id="rId3" Type="http://schemas.openxmlformats.org/officeDocument/2006/relationships/hyperlink" Target="http://ali.apple.com/ali/resources.shtml" TargetMode="External"/><Relationship Id="rId4" Type="http://schemas.openxmlformats.org/officeDocument/2006/relationships/hyperlink" Target="http://www.ideas.wisconsin.edu/" TargetMode="External"/><Relationship Id="rId5" Type="http://schemas.openxmlformats.org/officeDocument/2006/relationships/hyperlink" Target="http://www2.dpi.state.wi.us/sig/practices/high_2.asp" TargetMode="External"/><Relationship Id="rId6" Type="http://schemas.openxmlformats.org/officeDocument/2006/relationships/hyperlink" Target="http://wisc-online.com/" TargetMode="External"/><Relationship Id="rId7" Type="http://schemas.openxmlformats.org/officeDocument/2006/relationships/hyperlink" Target="http://www.merlot.org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38088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  <a:ea typeface="Times New Roman"/>
              </a:rPr>
              <a:t>Learning Obj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and"/>
                <a:ea typeface="Times New Roman"/>
              </a:rPr>
              <a:t>to Enrich Your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457200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san Cramer -- UW Oshko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027160" cy="266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380880"/>
            <a:ext cx="38098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Learning Object Coll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eway to Educational Materials (GEM) </a:t>
            </a:r>
            <a:r>
              <a:rPr b="0" lang="en-US" sz="1200" spc="-1" strike="noStrike" u="sng">
                <a:solidFill>
                  <a:srgbClr val="091c99"/>
                </a:solidFill>
                <a:uFillTx/>
                <a:latin typeface="Times New Roman"/>
                <a:hlinkClick r:id="rId2"/>
              </a:rPr>
              <a:t>http://www.thegateway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’s Learning Interchange (ALI) </a:t>
            </a:r>
            <a:r>
              <a:rPr b="0" lang="en-US" sz="1200" spc="-1" strike="noStrike" u="sng">
                <a:solidFill>
                  <a:srgbClr val="091c99"/>
                </a:solidFill>
                <a:uFillTx/>
                <a:latin typeface="Times New Roman"/>
                <a:hlinkClick r:id="rId3"/>
              </a:rPr>
              <a:t>http://ali.apple.com/ali/resourc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</a:t>
            </a:r>
            <a:r>
              <a:rPr b="0" lang="en-US" sz="1200" spc="-1" strike="noStrike" u="sng">
                <a:solidFill>
                  <a:srgbClr val="091c99"/>
                </a:solidFill>
                <a:uFillTx/>
                <a:latin typeface="Times New Roman"/>
                <a:hlinkClick r:id="rId4"/>
              </a:rPr>
              <a:t>http://www.ideas.wisconsin.edu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consin's Information Network for Successful Schools (WINS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91c99"/>
                </a:solidFill>
                <a:uFillTx/>
                <a:latin typeface="Arial"/>
                <a:hlinkClick r:id="rId5"/>
              </a:rPr>
              <a:t>http://www2.dpi.state.wi.us/sig/practices/high_2.as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consin Online Resource Center (Wisc-Online), </a:t>
            </a:r>
            <a:r>
              <a:rPr b="0" lang="en-US" sz="1200" spc="-1" strike="noStrike" u="sng">
                <a:solidFill>
                  <a:srgbClr val="091c99"/>
                </a:solidFill>
                <a:uFillTx/>
                <a:latin typeface="Times New Roman"/>
                <a:hlinkClick r:id="rId6"/>
              </a:rPr>
              <a:t>http://wisc-online.com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media Educational Resource for Learning and Online Teaching (MERLOT) </a:t>
            </a:r>
            <a:r>
              <a:rPr b="0" lang="en-US" sz="1200" spc="-1" strike="noStrike" u="sng">
                <a:solidFill>
                  <a:srgbClr val="091c99"/>
                </a:solidFill>
                <a:uFillTx/>
                <a:latin typeface="Times New Roman"/>
                <a:hlinkClick r:id="rId7"/>
              </a:rPr>
              <a:t>http://www.merlot.org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brary of Congress (LOC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ttp://loc.gov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Wisconsin Digital Collection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ttp://uwdc.library.wisc.edu/collectio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Books - author programs/movies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teachingbooks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S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nasa.gov/home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tual field trip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uen.org/utahlink/tours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gle and other search eng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4880" y="5334120"/>
            <a:ext cx="29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Just enough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just in tim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just for you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257800" y="380880"/>
            <a:ext cx="36576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What are learning object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Sand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al materials found on the Internet that can be used to illustrate, support, supplement or assess student lear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mall in siz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in duration, (2-15 minutes in lengt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n take on a variety of different shapes, formats, and purpo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232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nd"/>
              </a:rPr>
              <a:t>But, what they find in schools is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380880"/>
            <a:ext cx="3844800" cy="5730840"/>
            <a:chOff x="228600" y="380880"/>
            <a:chExt cx="3844800" cy="5730840"/>
          </a:xfrm>
        </p:grpSpPr>
        <p:sp>
          <p:nvSpPr>
            <p:cNvPr id="49" name=""/>
            <p:cNvSpPr/>
            <p:nvPr/>
          </p:nvSpPr>
          <p:spPr>
            <a:xfrm>
              <a:off x="228600" y="380880"/>
              <a:ext cx="380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and"/>
                </a:rPr>
                <a:t>How do students use and want to use technolog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600" y="914400"/>
              <a:ext cx="281952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68120" indent="-168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hey use the Internet as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virtual textbook and reference library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virtual tutor and study shortcut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rtual study group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rtual guidance counselor,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rtual locker-backpack-notebook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2895480"/>
              <a:ext cx="35812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164520" indent="-164520">
                <a:spcBef>
                  <a:spcPts val="3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ucational use of the Internet is most likely to occur outside of the school without direction of teacher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4520" indent="-164520">
                <a:spcBef>
                  <a:spcPts val="3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hen teachers do integrate the Internet into schoolwork, the quality of the assignments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nds to be poor and uninspiring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4520" indent="-164520">
                <a:spcBef>
                  <a:spcPts val="799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d, use of the Internet is not required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r use in homework.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2917800" y="990720"/>
              <a:ext cx="977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3200400" y="3352680"/>
              <a:ext cx="8730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8600" y="4800600"/>
              <a:ext cx="3276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and"/>
                </a:rPr>
                <a:t>What can we do differently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and"/>
                </a:rPr>
                <a:t>Use learning obje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2666880" y="5105520"/>
              <a:ext cx="1341720" cy="10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5267160" y="2209680"/>
            <a:ext cx="387684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ngle picture -- an illustration of the water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video clip  -- a bee pollinating a flow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articles-- discussing immigration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data -- analyzed to illustrate immigration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son accounts -- digitized diary ent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-- meio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tual field trips -- the world is your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torials --grammar and mathema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thread to all these instructional materi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upport student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vailable on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in a variety of contex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by multiple people in multiple locations simul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ccessed over and over without time or location constrai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the understanding of a concept or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presented to an entire class but their true power comes when individual students access the materials to support their current learning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7:06:35Z</dcterms:created>
  <dc:creator>College of Education &amp; Human Services</dc:creator>
  <dc:description/>
  <dc:language>en-US</dc:language>
  <cp:lastModifiedBy>College of Education &amp; Human Services</cp:lastModifiedBy>
  <cp:lastPrinted>2006-03-01T18:14:59Z</cp:lastPrinted>
  <dcterms:modified xsi:type="dcterms:W3CDTF">2006-03-08T14:35:10Z</dcterms:modified>
  <cp:revision>13</cp:revision>
  <dc:subject/>
  <dc:title>PowerPoint Presentation</dc:title>
</cp:coreProperties>
</file>